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67AB-DF27-4AAC-A5F8-41902C00C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1EC9-7826-4429-8876-3E72B8B7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BFE4-4F21-47A1-B217-089884A40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6CF2-80C6-49C9-95F7-711F12867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FB32-0852-43D6-B2BC-94402F67A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F395-7540-40F2-AF4E-77E1EC16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4912-0FB1-4931-A711-E62B1FD2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9441-2DDC-4292-B0F4-0A458D77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466B-1917-4F8E-9D24-71926F77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A926-009E-46A6-971A-059EA026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2D7A-DDBD-447E-9CA6-64747C98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8906-2887-469F-83F5-DB2EDC34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E1BB-E362-42A8-8A20-39AEB5F8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5442-49E0-4D36-9B0D-CF7473DF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09BB-9E4B-4E4F-B21B-351C7EAF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9A0E-25A9-40C2-8BE9-E0A036E48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C2D4-E5C7-4D7A-91D7-CEC64F61D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7A4E52-33DB-44D4-9064-AA29B4CEE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C93A9E-5836-4E8D-A81D-77D44095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F919A0-A0F7-45C6-B207-1CD5E316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301CFE-9147-4C89-BE2F-5A76D208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7516BF-2608-424B-91C0-BBE839D9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4B5E-EB18-428D-BD82-C0FB366B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FE052D-F52B-43A6-A5E6-1E7E2B7E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05F21D-5927-4742-BE6B-6A7677CE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B88555-0247-4EC5-9D44-1C9B3BAC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D1961A-EFA0-4CCE-AC5F-989B536C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A75FF0-7A4C-42C2-9790-C634DD4C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13BF06-53A7-4855-B554-528360AFA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166D4C-65E2-4222-8749-A6428F26D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BA490-EAA1-4C29-9669-091316124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75DA5-5DA3-40D0-9727-D1A053A9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05397-3257-4080-881F-4C9921E4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9BEC-CC58-43E1-AA35-D2675EDB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38258-A4D2-43D1-92BC-8E05C9EE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3C52C-C469-4777-AE32-3F691505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C7030-625D-4893-9A6E-66783847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64BE2-7603-4C50-8511-E9266161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F3F9C-B96A-4593-953D-DFE63DD8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C37E7-85D9-4C72-B2DE-D712E216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A8B16-11E3-4394-96D4-3148B241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11356-367D-44B2-839C-495C532EE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8D8C6-FF95-4D2A-A5A9-A5D95494F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57C8-9164-4C87-ACF6-EB54A358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93E4-21BE-4110-A13B-D1C0AE85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EC6F-DE27-42FD-A8BB-199C28BD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B31B-F204-4F27-9E45-F1798FFB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92D2-38DB-40FF-A641-BB96329D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7598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7598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7598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b32c1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598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598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FB99-6E85-4877-B128-8563CFD61F54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7598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7598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7598d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7598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7598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7598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b32c1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598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598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4D67-18CF-4973-AB21-9D048A035C54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7598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7598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7598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b32c1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598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598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4557-44CC-45E3-A65B-7208A592891A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7598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575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7598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7598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b32c1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598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598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08B7-1EC1-47EE-A1FE-5B6779A91F4E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35LZe0dbnk4&amp;feature=related" TargetMode="External"/><Relationship Id="rId2" Type="http://schemas.openxmlformats.org/officeDocument/2006/relationships/hyperlink" Target="http://www.youtube.com/watch?v=eCALWE0DNm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Paraguay Y Uruguay </a:t>
            </a:r>
            <a:endParaRPr b="0" lang="en-US" sz="44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Georgia"/>
              </a:rPr>
              <a:t>Christine Garry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Trebuchet MS"/>
              </a:rPr>
              <a:t>Media de los Dos Países</a:t>
            </a: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araguay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Georgia"/>
                <a:hlinkClick r:id="rId1"/>
              </a:rPr>
              <a:t>http://www.youtube.com/watch?v=35LZe0dbnk4&amp;feature=related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ruguay: </a:t>
            </a:r>
            <a:r>
              <a:rPr b="0" lang="en-US" sz="2800" spc="-1" strike="noStrike" u="sng">
                <a:solidFill>
                  <a:srgbClr val="d2611c"/>
                </a:solidFill>
                <a:uFillTx/>
                <a:latin typeface="Georgia"/>
                <a:hlinkClick r:id="rId2"/>
              </a:rPr>
              <a:t>http://www.youtube.com/watch?v=eCALWE0DNm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Trebuchet MS"/>
              </a:rPr>
              <a:t>Información Básica-Paraguay</a:t>
            </a: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Oficialmente la República del Paraguay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eorgia"/>
              </a:rPr>
              <a:t>Debido a su localización central en América del Sur, a veces se refiere a como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orazón de América del Sur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Paraguay se independizó de España en 1811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En 2009 la población se estimaba en 6,3 millones de persona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Las lenguas oficiales son el español y guaraní, ambos se hablan mucho en el país, con alrededor de 92% de la población general habla español y 98% hablan Guaraní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Trebuchet MS"/>
              </a:rPr>
              <a:t>Información Básica-Uruguay</a:t>
            </a: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ficialmente la República Oriental del Urugua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s el hogar de unos 3,3 millones de persona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proximadamente el 88% de la población es de ascendencia europe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ruguay es uno de los países más económicamente desarrollados de América del Su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ue el primer país sudamericano en legalizar el matrimonio entre personas del mismo sex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Trebuchet MS"/>
              </a:rPr>
              <a:t>Los Datos Importantes-Paraguay</a:t>
            </a: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sunción fue fundada el 15 de agosto de 1537, por el explorador español Juan de Salazar Espinosa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Paraguay derrocó a la administración local española el 15 de mayo de 1811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La Guerra del Chaco se peleó con Bolivia en la década de 1930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Entre 1904 y 1954, Paraguay tuvo treinta y uno presidentes, más de los cuales fueron destituidos por la fuerza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En 2010, Paraguay experimentó la mayor expansión económica en América Latina y el segundo más rápido en el mundo, sólo después de Qatar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Trebuchet MS"/>
              </a:rPr>
              <a:t>Los Datos Importantes-Uruguay</a:t>
            </a:r>
            <a:endParaRPr b="0" lang="en-US" sz="40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legada de los españoles en el territorio del actual Uruguay occurrió en 1516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n 1603, los españoles comenzaron a presentar el ganado, que se hizo una fuente de riqueza en la regió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finales de los años 1950, en parte debido a una disminución mundial en la demanda de productos agrícolas, los uruguayos sufridos de un escarpado pasan al nivel de vida que llevó a la militancia estudiantil y el malestar de trabaj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Trebuchet MS"/>
              </a:rPr>
              <a:t>Eventos Actuales-Paraguay </a:t>
            </a: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1.)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De acuerdo a transparencia internacional, Paraguay se ha convertido en el finalista en América Latina para de la corrupción del Gobierno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Las autoridades del Gobierno del país prometieron en 2008 que se produzca el 'cambiar' para los residentes del paí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2.)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En diciembre de 2011, las agencias de aire y de viajes en Paraguay informó que los boletos aéreos y viajes alcanzaron récord de venta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Además, todos los vuelos de aire fueron completamente reservados hasta febrero, que fue un acto muy positivo para el paí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Trebuchet MS"/>
              </a:rPr>
              <a:t>Eventos Actuales-Uruguay</a:t>
            </a: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ste año, el crecimiento del PIB previsto del Uruguay es 4%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l Gobierno planea atraer trabajadores calificados extranjeros y no extranjero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ay 20 mil empleos en el país ahor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sto se espera que produzca un crecimiento en la actividad económica del paí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Trebuchet MS"/>
              </a:rPr>
              <a:t>Información Lingüística-Paraguay </a:t>
            </a: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eorgia"/>
              </a:rPr>
              <a:t>Guarini es uno de los principales idiomas que se hablan en América del Sur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eorgia"/>
              </a:rPr>
              <a:t>Es hablado por casi 5 millones de persona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eorgia"/>
              </a:rPr>
              <a:t>El idioma es hablado diferente en Paraguay que en otros paíse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eorgia"/>
              </a:rPr>
              <a:t>Son algunos ejemplos a continuación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es-ES" sz="2600" spc="-1" strike="noStrike">
                <a:solidFill>
                  <a:srgbClr val="000000"/>
                </a:solidFill>
                <a:latin typeface="Georgia"/>
              </a:rPr>
              <a:t>Uno: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Peteĩ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eorgia"/>
              </a:rPr>
              <a:t>Mujer: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Kuña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eorgia"/>
              </a:rPr>
              <a:t>Perro: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Jagua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eorgia"/>
              </a:rPr>
              <a:t>Sol: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Kuarahy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eorgia"/>
              </a:rPr>
              <a:t>Agua: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Trebuchet MS"/>
              </a:rPr>
              <a:t>Información Lingüística-Uruguay</a:t>
            </a: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l idioma nacional/oficial del país es el españo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l idioma inmigrantes incluyen muchos lenguas de Europa, como Catalan, Corsas, Alemán y Rus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alectos del idioma español en el país incluyen Tightlipped, Rioplatense y Lunfard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b32c1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2T23:41:10Z</dcterms:created>
  <dc:creator>christine.garry</dc:creator>
  <dc:description/>
  <dc:language>en-US</dc:language>
  <cp:lastModifiedBy>christine.garry</cp:lastModifiedBy>
  <dcterms:modified xsi:type="dcterms:W3CDTF">2012-02-20T21:39:19Z</dcterms:modified>
  <cp:revision>20</cp:revision>
  <dc:subject/>
  <dc:title>Paraguay Y Uruguay</dc:title>
</cp:coreProperties>
</file>